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39615-F88D-4395-ABF2-C03F4780D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AF493-165D-4523-8C70-0DE2A400F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9C95C-1F69-4FAC-915F-5FCDD42B2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D4B85-2421-421D-8B23-D1B9CBA48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32320-47DE-425A-B0DA-8F309EEE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7A1E3-4729-4DF0-A977-5D1DB73D8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05F9-38B1-446F-9817-04AD0568A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DA120-9149-4CF6-ABB8-6D9A261C6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2D389-80FC-4687-957D-8AB363EC1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5D9BF-9A5C-4DF8-9FB1-9DECCF9BF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D57D4-C7BD-4BB8-9832-C5F8B145B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287BF-78E3-4C6F-996A-A2023304B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1C1A-0099-4389-9AED-8496AE135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درس الساب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81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إسراء/الآيات </a:t>
            </a:r>
            <a:r>
              <a:rPr b="0" lang="en-US" sz="3200" spc="-1" strike="noStrike">
                <a:solidFill>
                  <a:srgbClr val="000000"/>
                </a:solidFill>
                <a:latin typeface="Times New Roman"/>
              </a:rPr>
              <a:t>23</a:t>
            </a:r>
            <a:r>
              <a:rPr b="0" lang="en-US" sz="3200" spc="-1" strike="noStrike">
                <a:solidFill>
                  <a:srgbClr val="000000"/>
                </a:solidFill>
                <a:latin typeface="Times New Roman"/>
              </a:rPr>
              <a:t>-</a:t>
            </a:r>
            <a:r>
              <a:rPr b="0" lang="en-US" sz="3200" spc="-1" strike="noStrike">
                <a:solidFill>
                  <a:srgbClr val="000000"/>
                </a:solidFill>
                <a:latin typeface="Times New Roman"/>
              </a:rPr>
              <a:t>3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من اطلع الله على قلبه، وعلم أنه ليس فيه إلا الإنابة إليه ومحبته،ومحبة ما يقرب إليه فإنه وإن جرى منه في بعض الأوقات ما هو من مقتضى الطبائع البشرية فإن الله يعفو عنه ويغفر له الأمور العارضة غير المستقر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مر الله سبحانه بإيتاء ذي الحاجة حقه من البر والإكرام ،وذلك الحق يتفاوت بتفاوت الأحوال والأزمان والأقارب والحاجة وعدمها.</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عن التبذير والإسراف الذي هو إنفاق المال في غير حقه، ووصف سبحانه المبذرين بأنهم أخوان الشياطين؛ لأن الشيطان يدعو إلى كل خصلة ذميمة  فيدعو الإنسان إلى البخل والإمساك،فإذا عصاه دعاه إلى الإسراف التبذير والله تعالى إنما يأمر بأعدل الأمور وأقسط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تأديب الله سبحانه لعباده إذا سألهم سائل ما ليس عندهم كيف يقولون،وبم يردون، من القول اللطيف والوعد بالجميل عند سنوح الفرصة، والاعتذار بعدم الإمكان في الوقت الحاضر حتى يعودوا طيبة خواطرهم، كما قال تعالى: </a:t>
            </a:r>
            <a:r>
              <a:rPr b="0" lang="en-US" sz="3200" spc="-1" strike="noStrike">
                <a:solidFill>
                  <a:srgbClr val="000000"/>
                </a:solidFill>
                <a:latin typeface="Times New Roman"/>
              </a:rPr>
              <a:t>}</a:t>
            </a:r>
            <a:r>
              <a:rPr b="0" lang="ar-SA" sz="3200" spc="-1" strike="noStrike">
                <a:solidFill>
                  <a:srgbClr val="000000"/>
                </a:solidFill>
                <a:latin typeface="Times New Roman"/>
                <a:cs typeface="Traditional Arabic"/>
              </a:rPr>
              <a:t>قَوْلٌ مَعْرُوفٌ وَمَغْفِرَةٌ خَيْرٌ مِنْ صَدَقَةٍ يَتْبَعُهَا أَذًى وَاللَّهُ غَنِيٌّ حَلِيمٌ </a:t>
            </a:r>
            <a:r>
              <a:rPr b="0" lang="ar-JO"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263</a:t>
            </a:r>
            <a:r>
              <a:rPr b="0" lang="ar-JO"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ينبغي للإنسان أن يفعل ما يقدر عليه من الخير، وينوي فعل مالم يقدر عليه؛ليثاب على ذلك،ولعل الله أن ييسر له ذلك بسبب رجائه.</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أرشد سبحانه وتعالى بألا يكون الإنسان بخيلاً منوعاً لا يعطي أحداً شيئاَ، ولا مسرفاً في الإنفاق فيعطي فوق طاقته ويخرج أكثر من دخله، فإب البخيل ملومٌ مذمومٌ عند الناس، والمسرف في الإنفاق سرعان ما بفقد ماله فيصبح معسراً بعد الغنى، ذليلاً</a:t>
            </a:r>
            <a:endParaRPr b="0" lang="en-US" sz="3200" spc="-1" strike="noStrike">
              <a:solidFill>
                <a:srgbClr val="000000"/>
              </a:solidFill>
              <a:latin typeface="Times New Roman"/>
            </a:endParaRPr>
          </a:p>
          <a:p>
            <a:pPr marL="536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fontScale="91000"/>
          </a:bodyPr>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بعد العزة، محتاجاً إلى معونة غيره، وحينئذ يقع الإنسان في الحسرة ويبلغ منه الأسى كل مبلغ.</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له سبحانه خبير بعباده فيعلم الذي تصلحه السعة في الرزق ومن الذي تفسده، ومن الذي يصلحه الإقتار والضيق ومن الذي يفسده، وهو البصير بتدبيرهم وسياستهم فينبغي من يشاء، ويفقر من يشاء؛ لما له في ذلك من الحكمة العظيم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الوالدين أن يقتلوا أولادهم خوفاً من الفقر والإملاق، وتكفل برزق الجميع، وأخبر أن قتلهم فقد ارتكب خطئاً كبيراً أي من أعظم كبائر الذنوب، وإنما كان هذا الذنب كذلك؛لأجل زوال الرحمة من القلب فاعله، وما قام به من العقوق العظيم، والجرأة على قتل الأطفال الذين لم يجر منهم ذنب ولا معص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85840" y="-360"/>
            <a:ext cx="52578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228600" y="990360"/>
            <a:ext cx="8763120" cy="56386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قضى ربك ، فلا تقل لهما أف ، ولا تنهرهما، الأوابين، واخفض لهما جناح الذل، قولاً ميسوراً، ملوماً، محسوراً، خشية إملاق.</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لماذا قرن سبحانه بر الوالدين بعبادته وتوحيده؟</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هناك عدة صور لبر الوالدين والإحسان إليهما،اذكر ثلاثاً منها:</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اكتب(صح)أو(خطأ)أمام العبارات الآتية مع تصحيح الخطأ:</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يختص بر الوالدين بالمسلمين فقط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من الإحسان للوالدين ألا يجاهد إلا بإذنهما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ليس هناك مجال لبر الوالدين بعد وفاتهما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قتل الأولاد خشية الفقر من أعظم الذنوب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600" y="228240"/>
            <a:ext cx="8763120" cy="66294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لماذا ذكر حلة الكبر في قوله تعالى: </a:t>
            </a:r>
            <a:r>
              <a:rPr b="0" lang="en-US" sz="3200" spc="-1" strike="noStrike">
                <a:solidFill>
                  <a:srgbClr val="000000"/>
                </a:solidFill>
                <a:latin typeface="Times New Roman"/>
              </a:rPr>
              <a:t>} </a:t>
            </a:r>
            <a:r>
              <a:rPr b="0" lang="ar-SA" sz="3200" spc="-1" strike="noStrike">
                <a:solidFill>
                  <a:srgbClr val="000000"/>
                </a:solidFill>
                <a:latin typeface="Times New Roman"/>
                <a:cs typeface="Traditional Arabic"/>
              </a:rPr>
              <a:t>إِمَّا يَبْلُغَنَّ عِنْدَكَ الْكِبَرَ </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الآ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س</a:t>
            </a:r>
            <a:r>
              <a:rPr b="0" lang="ar-JO" sz="3200" spc="-1" strike="noStrike">
                <a:solidFill>
                  <a:srgbClr val="000000"/>
                </a:solidFill>
                <a:latin typeface="Times New Roman"/>
              </a:rPr>
              <a:t>6</a:t>
            </a:r>
            <a:r>
              <a:rPr b="0" lang="ar-JO" sz="3200" spc="-1" strike="noStrike">
                <a:solidFill>
                  <a:srgbClr val="000000"/>
                </a:solidFill>
                <a:latin typeface="Times New Roman"/>
              </a:rPr>
              <a:t>:بماذا وصف سبحانه حال المبذرين؟ولماذا وصفهم بذلك؟</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228600" y="1371600"/>
            <a:ext cx="8686800" cy="51055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قَضَى رَبُّكَ أَلَّا تَعْبُدُوا إِلَّا إِيَّاهُ وَبِالْوَالِدَيْنِ إِحْسَانًا إِمَّا يَبْلُغَنَّ عِنْدَكَ الْكِبَرَ أَحَدُهُمَا أَوْ كِلَاهُمَا فَلَا تَقُلْ لَهُمَا أُفٍّ وَلَا تَنْهَرْهُمَا وَقُلْ لَهُمَا قَوْلًا كَرِيمًا (</a:t>
            </a:r>
            <a:r>
              <a:rPr b="0" lang="ar-SA" sz="3200" spc="-1" strike="noStrike">
                <a:solidFill>
                  <a:srgbClr val="000000"/>
                </a:solidFill>
                <a:latin typeface="Times New Roman"/>
                <a:ea typeface="Traditional Arabic"/>
              </a:rPr>
              <a:t>23</a:t>
            </a:r>
            <a:r>
              <a:rPr b="0" lang="ar-SA" sz="3200" spc="-1" strike="noStrike">
                <a:solidFill>
                  <a:srgbClr val="000000"/>
                </a:solidFill>
                <a:latin typeface="Times New Roman"/>
                <a:ea typeface="Traditional Arabic"/>
              </a:rPr>
              <a:t>) وَاخْفِضْ لَهُمَا جَنَاحَ الذُّلِّ مِنَ الرَّحْمَةِ وَقُلْ رَبِّ ارْحَمْهُمَا كَمَا رَبَّيَانِي صَغِيرًا (</a:t>
            </a:r>
            <a:r>
              <a:rPr b="0" lang="ar-SA" sz="3200" spc="-1" strike="noStrike">
                <a:solidFill>
                  <a:srgbClr val="000000"/>
                </a:solidFill>
                <a:latin typeface="Times New Roman"/>
                <a:ea typeface="Traditional Arabic"/>
              </a:rPr>
              <a:t>24</a:t>
            </a:r>
            <a:r>
              <a:rPr b="0" lang="ar-SA" sz="3200" spc="-1" strike="noStrike">
                <a:solidFill>
                  <a:srgbClr val="000000"/>
                </a:solidFill>
                <a:latin typeface="Times New Roman"/>
                <a:ea typeface="Traditional Arabic"/>
              </a:rPr>
              <a:t>) رَبُّكُمْ أَعْلَمُ بِمَا فِي نُفُوسِكُمْ إِنْ تَكُونُوا صَالِحِينَ فَإِنَّهُ كَانَ لِلْأَوَّابِينَ غَفُورًا (</a:t>
            </a:r>
            <a:r>
              <a:rPr b="0" lang="ar-SA" sz="3200" spc="-1" strike="noStrike">
                <a:solidFill>
                  <a:srgbClr val="000000"/>
                </a:solidFill>
                <a:latin typeface="Times New Roman"/>
                <a:ea typeface="Traditional Arabic"/>
              </a:rPr>
              <a:t>25</a:t>
            </a:r>
            <a:r>
              <a:rPr b="0" lang="ar-SA" sz="3200" spc="-1" strike="noStrike">
                <a:solidFill>
                  <a:srgbClr val="000000"/>
                </a:solidFill>
                <a:latin typeface="Times New Roman"/>
                <a:ea typeface="Traditional Arabic"/>
              </a:rPr>
              <a:t>) وَآَتِ ذَا الْقُرْبَى حَقَّهُ وَالْمِسْكِينَ وَابْنَ السَّبِيلِ وَلَا تُبَذِّرْ تَبْذِيرًا (</a:t>
            </a:r>
            <a:r>
              <a:rPr b="0" lang="ar-SA" sz="3200" spc="-1" strike="noStrike">
                <a:solidFill>
                  <a:srgbClr val="000000"/>
                </a:solidFill>
                <a:latin typeface="Times New Roman"/>
                <a:ea typeface="Traditional Arabic"/>
              </a:rPr>
              <a:t>26</a:t>
            </a:r>
            <a:r>
              <a:rPr b="0" lang="ar-SA" sz="3200" spc="-1" strike="noStrike">
                <a:solidFill>
                  <a:srgbClr val="000000"/>
                </a:solidFill>
                <a:latin typeface="Times New Roman"/>
                <a:ea typeface="Traditional Arabic"/>
              </a:rPr>
              <a:t>) إِنَّ الْمُبَذِّرِينَ كَانُوا إِخْوَانَ الشَّيَاطِينِ وَكَانَ الشَّيْطَانُ لِرَبِّهِ كَفُورًا (</a:t>
            </a:r>
            <a:r>
              <a:rPr b="0" lang="ar-SA" sz="3200" spc="-1" strike="noStrike">
                <a:solidFill>
                  <a:srgbClr val="000000"/>
                </a:solidFill>
                <a:latin typeface="Times New Roman"/>
                <a:ea typeface="Traditional Arabic"/>
              </a:rPr>
              <a:t>27</a:t>
            </a:r>
            <a:r>
              <a:rPr b="0" lang="ar-SA" sz="3200" spc="-1" strike="noStrike">
                <a:solidFill>
                  <a:srgbClr val="000000"/>
                </a:solidFill>
                <a:latin typeface="Times New Roman"/>
                <a:ea typeface="Traditional Arabic"/>
              </a:rPr>
              <a:t>) وَإِمَّا تُعْرِضَنَّ عَنْهُمُ ابْتِغَاءَ رَحْمَةٍ مِنْ رَبِّكَ تَرْجُوهَا فَقُلْ لَهُمْ قَوْلًا مَيْسُورًا (</a:t>
            </a:r>
            <a:r>
              <a:rPr b="0" lang="ar-SA" sz="3200" spc="-1" strike="noStrike">
                <a:solidFill>
                  <a:srgbClr val="000000"/>
                </a:solidFill>
                <a:latin typeface="Times New Roman"/>
                <a:ea typeface="Traditional Arabic"/>
              </a:rPr>
              <a:t>28</a:t>
            </a:r>
            <a:r>
              <a:rPr b="0" lang="ar-SA" sz="3200" spc="-1" strike="noStrike">
                <a:solidFill>
                  <a:srgbClr val="000000"/>
                </a:solidFill>
                <a:latin typeface="Times New Roman"/>
                <a:ea typeface="Traditional Arabic"/>
              </a:rPr>
              <a:t>) وَلَا تَجْعَلْ يَدَكَ مَغْلُولَةً إِلَى عُنُقِكَ وَلَا تَبْسُطْهَا كُلَّ الْبَسْطِ فَتَقْعُدَ مَلُومًا مَحْسُورًا (</a:t>
            </a:r>
            <a:r>
              <a:rPr b="0" lang="ar-SA" sz="3200" spc="-1" strike="noStrike">
                <a:solidFill>
                  <a:srgbClr val="000000"/>
                </a:solidFill>
                <a:latin typeface="Times New Roman"/>
                <a:ea typeface="Traditional Arabic"/>
              </a:rPr>
              <a:t>29</a:t>
            </a:r>
            <a:r>
              <a:rPr b="0" lang="ar-SA" sz="3200" spc="-1" strike="noStrike">
                <a:solidFill>
                  <a:srgbClr val="000000"/>
                </a:solidFill>
                <a:latin typeface="Times New Roman"/>
                <a:ea typeface="Traditional Arabic"/>
              </a:rPr>
              <a:t>) إِنَّ رَبَّكَ يَبْسُطُ الرِّزْقَ لِمَنْ يَشَاءُ وَيَقْدِرُ إِنَّهُ كَانَ بِعِبَادِهِ خَبِيرًا بَصِيرًا (</a:t>
            </a:r>
            <a:r>
              <a:rPr b="0" lang="ar-SA" sz="3200" spc="-1" strike="noStrike">
                <a:solidFill>
                  <a:srgbClr val="000000"/>
                </a:solidFill>
                <a:latin typeface="Times New Roman"/>
                <a:ea typeface="Traditional Arabic"/>
              </a:rPr>
              <a:t>30</a:t>
            </a:r>
            <a:r>
              <a:rPr b="0" lang="ar-SA" sz="3200" spc="-1" strike="noStrike">
                <a:solidFill>
                  <a:srgbClr val="000000"/>
                </a:solidFill>
                <a:latin typeface="Times New Roman"/>
                <a:ea typeface="Traditional Arabic"/>
              </a:rPr>
              <a:t>) وَلَا تَقْتُلُوا أَوْلَادَكُمْ خَشْيَةَ إِمْلَاقٍ نَحْنُ نَرْزُقُهُمْ وَإِيَّاكُمْ إِنَّ قَتْلَهُمْ كَانَ خِطْئًا كَبِيرًا (</a:t>
            </a:r>
            <a:r>
              <a:rPr b="0" lang="ar-SA" sz="3200" spc="-1" strike="noStrike">
                <a:solidFill>
                  <a:srgbClr val="000000"/>
                </a:solidFill>
                <a:latin typeface="Times New Roman"/>
                <a:ea typeface="Traditional Arabic"/>
              </a:rPr>
              <a:t>31</a:t>
            </a:r>
            <a:r>
              <a:rPr b="0" lang="ar-SA" sz="3200" spc="-1" strike="noStrike">
                <a:solidFill>
                  <a:srgbClr val="000000"/>
                </a:solidFill>
                <a:latin typeface="Times New Roman"/>
                <a:ea typeface="Traditional Arabic"/>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304920" y="914400"/>
          <a:ext cx="8610480" cy="5775480"/>
        </p:xfrm>
        <a:graphic>
          <a:graphicData uri="http://schemas.openxmlformats.org/drawingml/2006/table">
            <a:tbl>
              <a:tblPr/>
              <a:tblGrid>
                <a:gridCol w="4305240"/>
                <a:gridCol w="43052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كلم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54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ر وألزم وأوج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مر بالوالدين إحساناً:براً بهما وعطفاً عل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سمعهما قولاً سيئاً حتى التأفف الذي هو أدنى مراتب القول السي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زجرهما، وقيل :لا تنفض يدك عل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ناً لطيفاً مثل: يا أبتاه ويا أماه من غير أن يسم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لن لهما جانبك متذللاً لهم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ضى رب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بالوالدين إحس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قل لهما أف</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نهر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 لهما قولاً كر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خفض لهما جناح الذل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458200" cy="6156360"/>
        </p:xfrm>
        <a:graphic>
          <a:graphicData uri="http://schemas.openxmlformats.org/drawingml/2006/table">
            <a:tbl>
              <a:tblPr/>
              <a:tblGrid>
                <a:gridCol w="4229280"/>
                <a:gridCol w="4228920"/>
              </a:tblGrid>
              <a:tr h="7453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شفق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دع لهما بالرحمة أحياء وأمواتاً جزاء على تربيتهما إياك صغ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بر الوالدين أو عقوق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براراً مطيعين بعد تقصير كان منكم في القيام بما يلزمكم من حق الوالدين وغير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أواب هو: التائب من انب، الراجع عن المعصية إلى الطاعة ومما يكره الله إلى ما يحبه ويرضا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رابة الرجل ببرهم وصلت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ي أولياءهم لأنهم يوافقونهم فيما يدعونهم إلي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رح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 رب ارحمهما كما ربياني صغ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بكم أعلم بما في نفوس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تكونوا صالح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للأواب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آت ذا القربى حق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مبذرين كانوا إخوان الشياطين</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686800" cy="6172200"/>
        </p:xfrm>
        <a:graphic>
          <a:graphicData uri="http://schemas.openxmlformats.org/drawingml/2006/table">
            <a:tbl>
              <a:tblPr/>
              <a:tblGrid>
                <a:gridCol w="4343400"/>
                <a:gridCol w="4343400"/>
              </a:tblGrid>
              <a:tr h="70264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جاحداً لنعمه،  وهذا يتضمن أن المسرف كفور للنع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ذا سألك أقاربك ومن أمرناك بإعطائهم وليس عندك شيء وأعرضت عنهم لفقد النفقة فقل لهم قولاً مي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نتظار رزق من الله ترجوه أن يأتي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ناً. والمراد: عدهم وعداً جم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ناية عن شدة الإمساك والبخل أي: لا تكن بخيلاً منوعاً لا تعطي أحداً شيئ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تعطي جميع ما عند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لوم نفسك ويلومك النا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كنا الشيطان لربه كف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إما تعرضن عن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بتغاء رحمة من ربك ترج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قل لهم قولاً مي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جعل يدك مغلولة إلى عنق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بسطها كل البسط</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تقعد ملوم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غت في الحمل على نفسك وحالك حتى صرت بمنزلة من حسر وانقطع وبلغ غاية في التعب و الإعي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سع على من يشاء ويضي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حيث أجرى أرزاقهم على ما علم فيه صلاح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وف أن تفتقرو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نباً عظ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ح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بسط الرزق لمن يشاء ويقد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بعباده خبيراً بص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شية إملا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طئاً كب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0000"/>
          </a:bodyPr>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أمر الله سبحانه بعبادته وتوحيده وجعل بر الوالدين مقروناُ بذلك كما قرن شكرهما بشكره فقال:</a:t>
            </a:r>
            <a:r>
              <a:rPr b="0" lang="en-US" sz="2800" spc="-1" strike="noStrike">
                <a:solidFill>
                  <a:srgbClr val="000000"/>
                </a:solidFill>
                <a:latin typeface="Times New Roman"/>
              </a:rPr>
              <a:t>} </a:t>
            </a:r>
            <a:r>
              <a:rPr b="0" lang="ar-SA" sz="2800" spc="-1" strike="noStrike">
                <a:solidFill>
                  <a:srgbClr val="000000"/>
                </a:solidFill>
                <a:latin typeface="Times New Roman"/>
                <a:cs typeface="Traditional Arabic"/>
              </a:rPr>
              <a:t>وَقَضَى رَبُّكَ أَلَّا تَعْبُدُوا إِلَّا إِيَّاهُ وَبِالْوَالِدَيْنِ إِحْسَانًا </a:t>
            </a:r>
            <a:r>
              <a:rPr b="0" lang="en-US" sz="2800" spc="-1" strike="noStrike">
                <a:solidFill>
                  <a:srgbClr val="000000"/>
                </a:solidFill>
                <a:latin typeface="Times New Roman"/>
                <a:ea typeface="Traditional Arabic"/>
              </a:rPr>
              <a:t>{</a:t>
            </a:r>
            <a:r>
              <a:rPr b="0" lang="ar-JO" sz="2800" spc="-1" strike="noStrike">
                <a:solidFill>
                  <a:srgbClr val="000000"/>
                </a:solidFill>
                <a:latin typeface="Times New Roman"/>
                <a:cs typeface="Traditional Arabic"/>
              </a:rPr>
              <a:t>، وقال((ووصينا الإنسان بوالديه حملته أمه وهناً على وهن وفصله في عامين أن اشكر لى ولوالديك إلى المصير))</a:t>
            </a:r>
            <a:endParaRPr b="0" lang="en-US" sz="2800" spc="-1" strike="noStrike">
              <a:solidFill>
                <a:srgbClr val="000000"/>
              </a:solidFill>
              <a:latin typeface="Times New Roman"/>
            </a:endParaRPr>
          </a:p>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من البر بالوالدين والإحسان إليهما</a:t>
            </a:r>
            <a:r>
              <a:rPr b="0" lang="en-US" sz="2800" spc="-1" strike="noStrike">
                <a:solidFill>
                  <a:srgbClr val="000000"/>
                </a:solidFill>
                <a:latin typeface="Times New Roman"/>
              </a:rPr>
              <a:t> </a:t>
            </a:r>
            <a:r>
              <a:rPr b="0" lang="ar-JO" sz="2800" spc="-1" strike="noStrike">
                <a:solidFill>
                  <a:srgbClr val="000000"/>
                </a:solidFill>
                <a:latin typeface="Times New Roman"/>
              </a:rPr>
              <a:t> ألا يتعرض لسبهما ولا يعقهما فإن ذلك من الكبائر، ففي صحيح البخاري عن عبدالله بن عمرو رضي الله عنهما قال: قال رسول الله صلى الله عليه وسلم : ((إن من أكبر الكبائر أن يلعن الرجل والديه)).قيل :يا رسول الله، وكيف يلعن الرجل والديه؟قال :يسب أبا الرجل فيسب أباه،ويسب أمه فيسب أمه)).</a:t>
            </a:r>
            <a:endParaRPr b="0" lang="en-US" sz="2800" spc="-1" strike="noStrike">
              <a:solidFill>
                <a:srgbClr val="000000"/>
              </a:solidFill>
              <a:latin typeface="Times New Roman"/>
            </a:endParaRPr>
          </a:p>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لا يختص بر الواولدين بأن يكونا مسلمين بل إن كانا  كافرين يبرهما ويحسن إليهما إذا كان لهما عهد، ففي صحيح البخاري عن أسماء</a:t>
            </a:r>
            <a:endParaRPr b="0" lang="en-US" sz="2800" spc="-1" strike="noStrike">
              <a:solidFill>
                <a:srgbClr val="000000"/>
              </a:solidFill>
              <a:latin typeface="Times New Roman"/>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fontScale="88000"/>
          </a:bodyPr>
          <a:p>
            <a:pPr marL="536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رضي الله عنها قالت:قدمت علي أمي وهي مشركة في عهد رسول الله </a:t>
            </a:r>
            <a:r>
              <a:rPr b="1" lang="ar-JO" sz="3600" spc="-1" strike="noStrike">
                <a:solidFill>
                  <a:srgbClr val="000000"/>
                </a:solidFill>
                <a:latin typeface="AGA Arabesque"/>
                <a:ea typeface="AGA Arabesque"/>
              </a:rPr>
              <a:t></a:t>
            </a:r>
            <a:r>
              <a:rPr b="1" lang="ar-SA" sz="2800" spc="-1" strike="noStrike">
                <a:solidFill>
                  <a:srgbClr val="000000"/>
                </a:solidFill>
                <a:latin typeface="Arial"/>
              </a:rPr>
              <a:t> </a:t>
            </a:r>
            <a:r>
              <a:rPr b="0" lang="ar-SA" sz="2800" spc="-1" strike="noStrike">
                <a:solidFill>
                  <a:srgbClr val="000000"/>
                </a:solidFill>
                <a:latin typeface="Times New Roman"/>
              </a:rPr>
              <a:t>فاستفتيت رسول الله صلى الله عليه وسلم قلت</a:t>
            </a:r>
            <a:r>
              <a:rPr b="0" lang="ar-JO" sz="2800" spc="-1" strike="noStrike">
                <a:solidFill>
                  <a:srgbClr val="000000"/>
                </a:solidFill>
                <a:latin typeface="Times New Roman"/>
              </a:rPr>
              <a:t>: </a:t>
            </a:r>
            <a:r>
              <a:rPr b="0" lang="ar-SA" sz="2800" spc="-1" strike="noStrike">
                <a:solidFill>
                  <a:srgbClr val="000000"/>
                </a:solidFill>
                <a:latin typeface="Times New Roman"/>
              </a:rPr>
              <a:t>إن أمي قدمت وهي راغبة أفأصل أمي؟قال: ((نعم صلي أمك)).</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من  الإحسان إليهما والبر بهما – إذا  لم يتعين الجهاد- ألا يجاهد إلا بإذنهما فعن عبدالله بن عمرو رضي الله عنهما قال:قال رجل للنبي صلى الله عليه وسلم:أجاهد ؟ قال:نعم . قال: ((ففيهما فجاهد))</a:t>
            </a:r>
            <a:endParaRPr b="0" lang="en-US" sz="28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قوله تعالى ((</a:t>
            </a:r>
            <a:r>
              <a:rPr b="0" lang="ar-SA" sz="3200" spc="-1" strike="noStrike">
                <a:solidFill>
                  <a:srgbClr val="000000"/>
                </a:solidFill>
                <a:latin typeface="Times New Roman"/>
                <a:cs typeface="Traditional Arabic"/>
              </a:rPr>
              <a:t>إِمَّا يَبْلُغَنَّ عِنْدَكَ الْكِبَرَ </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خص حالة الكبر؛لأنها الحالة التي يحتاجان فيها إلى بره لتغير الحال عليهما بالضعف والكبر فألزم في هذه الحالة كراعاة أحوالهما أكثر مما ألزمه من قبل؛لأنهما فب هذه الحالة قد صارا كلاً عليه فيحتاجان أن يلي منهما في الكبر ما كان يحتاج في صغره أن يليا منه فلذلك خص هذه الحالة بالذكر.</a:t>
            </a:r>
            <a:endParaRPr b="0" lang="en-US" sz="3200" spc="-1" strike="noStrike">
              <a:solidFill>
                <a:srgbClr val="000000"/>
              </a:solidFill>
              <a:latin typeface="Times New Roman"/>
            </a:endParaRPr>
          </a:p>
          <a:p>
            <a:pPr marL="536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04920" y="228240"/>
            <a:ext cx="8686800" cy="61722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وله تعالى: ((</a:t>
            </a:r>
            <a:r>
              <a:rPr b="0" lang="hi-IN" sz="3200" spc="-1" strike="noStrike">
                <a:solidFill>
                  <a:srgbClr val="000000"/>
                </a:solidFill>
                <a:latin typeface="Times New Roman"/>
                <a:cs typeface="Traditional Arabic"/>
              </a:rPr>
              <a:t>وَاخْفِضْ لَهُمَا جَنَاحَ الذُّلِّ مِنَ الرَّحْمَةِ </a:t>
            </a:r>
            <a:r>
              <a:rPr b="0" lang="en-US" sz="3200" spc="-1" strike="noStrike">
                <a:solidFill>
                  <a:srgbClr val="000000"/>
                </a:solidFill>
                <a:latin typeface="Times New Roman"/>
              </a:rPr>
              <a:t>)) هذه استعارة في الشفقة والرحمة بهما والتذلل لهما فينبغي أن تجعل الإنسان نفسه مع أبويه في خير له في أقواله وسكناته  ونظره ولا يحد إليهما بصره فإن تلك هي نظرة الغاضب.</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وله تعالى: ((</a:t>
            </a:r>
            <a:r>
              <a:rPr b="0" lang="hi-IN" sz="3200" spc="-1" strike="noStrike">
                <a:solidFill>
                  <a:srgbClr val="000000"/>
                </a:solidFill>
                <a:latin typeface="Times New Roman"/>
                <a:cs typeface="Traditional Arabic"/>
              </a:rPr>
              <a:t>كَمَا رَبَّيَانِي صَغِيرًا </a:t>
            </a:r>
            <a:r>
              <a:rPr b="0" lang="en-US" sz="3200" spc="-1" strike="noStrike">
                <a:solidFill>
                  <a:srgbClr val="000000"/>
                </a:solidFill>
                <a:latin typeface="Times New Roman"/>
              </a:rPr>
              <a:t>)) خص التربية بالذكر ليتذكر العبد شفقة الأبوين وتعبهما في التربية فيزيد ذلك إشفاقاً وحناناً عليهما، وهذا كله في الأبوين المؤمنين؛ لأن الله سبحانه نهى عن الاستغفار للمشركين الأموات ولو كانوا أولي قربى .</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ا يختص بر الوالدين بحال الحياة، بل يكون بعد الموت أيضاً بصلة أهل ودهما، والاستغفار والدعاء لهما، وإنقاذ عهدهما، وصلة الرحم التي لا رحم لك إلا من قبل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8T07:47:59Z</dcterms:created>
  <dc:creator>cultural-office</dc:creator>
  <dc:description/>
  <dc:language>en-US</dc:language>
  <cp:lastModifiedBy>cultural-office</cp:lastModifiedBy>
  <dcterms:modified xsi:type="dcterms:W3CDTF">2008-01-19T12:08:24Z</dcterms:modified>
  <cp:revision>13</cp:revision>
  <dc:subject/>
  <dc:title>الدرس السابع</dc:title>
</cp:coreProperties>
</file>